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E1CC-6B37-4A75-945F-0A39604A3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D4D1-243A-479C-A12E-691CD6EA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4858-F848-40FA-8979-4668E39DF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8E5C-5A40-4D97-ADC6-7787C8463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D57B-F3F2-4041-B278-93A1599F3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06BA-1F87-4CD6-A012-AED04284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DF3D-6DBE-441A-8BA4-1A347E62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8A37-F99C-49FD-8782-587120B6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1229-35D9-4128-9688-E13766A8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AFAB-C1AC-4477-8A0F-5CF35D02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C5F1-73FC-416C-9B25-16973010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81BA-8A62-4729-8CE2-D5A7A51A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C7DF-3F4C-463E-906B-D6CF2BE5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179A-D304-4153-BDD1-17F429CA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2313-CFB9-486A-979E-292991E0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B052-C917-4E1D-9153-0C8D1F261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990E-1B42-4252-A0F7-8656AA275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A0D5-C949-4351-874E-144099BC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CE42-626D-40FD-B0D5-EF4CC457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9743-2329-4547-87AD-D56C0827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A334-7F95-4844-8D5A-98EA90C0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77C8-A6FC-400B-AFB5-EE98C952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97A7-D3AE-418F-A928-EEADF1A9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5860-693C-4CCE-9473-73F8200B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D74F-4FA4-4DBA-9B21-972FBAA9B90D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CE08-FAE4-49E5-BAFB-6FB4CCAF696E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be a safe pedestri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the Ascot Community School Counc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en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ank you fo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stening and I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pe you lear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eaps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3440" y="1981080"/>
            <a:ext cx="3773160" cy="4114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THIS IS 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o the right &gt;&gt;&gt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s your school council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very week someone from the school council will give you some tip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n how to be a safe pedestria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is week  the topic is how to sta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afe at pedestrian crossing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800600" y="3505320"/>
            <a:ext cx="373392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lect the pedestrian cross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ven though it means walking 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ttle furthe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952880" y="2590920"/>
            <a:ext cx="3810240" cy="2857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alk up to the kerb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n take one small step back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010120" y="1981080"/>
            <a:ext cx="3086280" cy="4114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ok and listen before you g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ross, if there are no vehic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alk quickly acros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505320" cy="4191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47960" y="4190760"/>
            <a:ext cx="3809880" cy="1981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there is an approach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ehicle make eye contact with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driver and check whethe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y slow down for you a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e sure you check the traffi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the next lan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010120" y="1981080"/>
            <a:ext cx="3086280" cy="4114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ile crossing in front of 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ehicle check to make sur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re are no vehicles in th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xt lan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8320" y="2590920"/>
            <a:ext cx="3809880" cy="2857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eep looking and liste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l the way acro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roa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010120" y="1981080"/>
            <a:ext cx="3086280" cy="4114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there is a traffic island In th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iddle stop and check that i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 still saf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010120" y="1981080"/>
            <a:ext cx="3086280" cy="4114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21:35:46Z</dcterms:created>
  <dc:creator>Ministry of Education</dc:creator>
  <dc:description/>
  <dc:language>en-US</dc:language>
  <cp:lastModifiedBy>Educating NZ</cp:lastModifiedBy>
  <dcterms:modified xsi:type="dcterms:W3CDTF">2008-08-17T23:25:09Z</dcterms:modified>
  <cp:revision>4</cp:revision>
  <dc:subject/>
  <dc:title>How to be a safe pedestrian</dc:title>
</cp:coreProperties>
</file>